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39A8-92F5-451D-87C3-AEB45361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BBC3-5585-4DF4-9674-67D46752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6D9-8811-4B3C-A232-A2EF7468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B88F-6ED7-4284-B33D-022A1028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D63-9FC8-430D-B597-FB3A3B9D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0D9-3744-443F-BDD7-976BFE91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1E3-E3C7-4B22-880A-EE233677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74A-0A26-417D-B6D9-6ECA615E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4BA-BA0B-4FE7-B5AD-35BEEFBC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4537-79E1-4D64-9E68-A622054D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B8C2-74C9-49E2-AF1A-940F5ED0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CB1-D4A3-461E-9459-79F6B6BA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E89D-D0B8-44B8-8F46-75ADBDCE4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arcprensky.com/writing/Prensky%20-%20Digital%20Natives,%20Digital%20Immigrants%20-%20Part1.pdf" TargetMode="External"/><Relationship Id="rId2" Type="http://schemas.openxmlformats.org/officeDocument/2006/relationships/hyperlink" Target="http://www.marcprensky.com/writing/+Prensky-The_Reformers_Are_Leaving_Our_Schools_in_the_20th_Century-please_distribute_freely.pdf" TargetMode="External"/><Relationship Id="rId3" Type="http://schemas.openxmlformats.org/officeDocument/2006/relationships/hyperlink" Target="http://www.marcprensky.com/writing/+Prensky-The_Reformers_Are_Leaving_Our_Schools_in_the_20th_Century-please_distribute_freely.pdf" TargetMode="External"/><Relationship Id="rId4" Type="http://schemas.openxmlformats.org/officeDocument/2006/relationships/hyperlink" Target="http://www.marcprensky.com/writing/+Prensky-The_Reformers_Are_Leaving_Our_Schools_in_the_20th_Century-please_distribute_freely.pdf" TargetMode="External"/><Relationship Id="rId5" Type="http://schemas.openxmlformats.org/officeDocument/2006/relationships/hyperlink" Target="http://www.marcprensky.com/writing/Prensky-Blaming_Our_Young-01.pdf" TargetMode="External"/><Relationship Id="rId6" Type="http://schemas.openxmlformats.org/officeDocument/2006/relationships/hyperlink" Target="http://www.marcprensky.com/writing/Prensky-What_I_Learned_in_NYC_Classrooms-final.pdf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iigo.com/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deliciou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la.org/ala/issuesadvocacy/advocacy/federallegislation/cipa/cipatext.pdf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logs, Wikis, Podcasts, and other Powerful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eb Tool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for Classro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320" y="2057040"/>
            <a:ext cx="4496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Will Richard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7054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arental Approval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etter dealing with the use of b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dcas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ing a recording into published med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not to let production value overwhelm what might be really interesting cont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486400" y="4343400"/>
            <a:ext cx="2895480" cy="1576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800" y="4813200"/>
            <a:ext cx="327672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today’s students enter their post-education professional lives, odds are pretty good that they will be asked to work with others from around the globe collaboratively to create content for diverse and wide-ranging audiences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ichard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that to an educational system that, by and large, asks those same students to work independently for a very narrow audience (usually the teacher who gives the grade), and disconnect becomes painfully clear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Richard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 Richardson’s Big Shif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, Many Teachers, and 24/7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cial, Collaborative Construction of Meaningful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ching Is Conversation, Not L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 “Where”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ers Are No Longer Just R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eb as Notebook (or Portfol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is No Longer Limited to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tery is the Product, Not the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ibution, Not Completion, as the Ultimate Go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reating vs. Consu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7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A To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de it possible for readers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ent on any s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dding opinion, asking further questions, or even correcting what’s been written, and most other online newspapers are following suit.  In essence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 article is a blog p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igital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are building vast social networks with little or no guidance from adults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Richard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c Prens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igital Native, Digital Immi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Reformers are Leaving our Schools in the 20</a:t>
            </a:r>
            <a:r>
              <a:rPr b="0" lang="en-US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3"/>
              </a:rPr>
              <a:t>th</a:t>
            </a:r>
            <a:r>
              <a:rPr b="0" lang="en-US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4"/>
              </a:rPr>
              <a:t>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lame our Young? Or Use Their Pass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hat I Learned Recently in NYC Classro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ality is that the vast majority of educators have taken the work they had students do in the paper, analog world and simply digitize it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Richard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olbox” according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ichardson is a mix of those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ubl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ose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nage infor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those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are 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new collaborative way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86560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logs (Blo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Simple Syndication (R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g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286560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Bookma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Photo Gall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o/video-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Dii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914400"/>
            <a:ext cx="3476520" cy="1333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2680" y="29718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afet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our obligation to teach [students] what is acceptable and safe and what isn’t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Richard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ild Internet Protection Ac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(CIP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19:12:55Z</dcterms:created>
  <dc:creator>setup</dc:creator>
  <dc:description/>
  <dc:language>en-US</dc:language>
  <cp:lastModifiedBy>setup</cp:lastModifiedBy>
  <dcterms:modified xsi:type="dcterms:W3CDTF">2011-06-16T21:08:38Z</dcterms:modified>
  <cp:revision>3</cp:revision>
  <dc:subject/>
  <dc:title>Content</dc:title>
</cp:coreProperties>
</file>